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18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10.png" ContentType="image/png"/>
  <Override PartName="/ppt/media/image6.wmf" ContentType="image/x-wmf"/>
  <Override PartName="/ppt/media/image3.png" ContentType="image/png"/>
  <Override PartName="/ppt/media/image11.wmf" ContentType="image/x-wmf"/>
  <Override PartName="/ppt/media/image7.png" ContentType="image/png"/>
  <Override PartName="/ppt/media/image15.wmf" ContentType="image/x-wmf"/>
  <Override PartName="/ppt/media/image16.wmf" ContentType="image/x-wmf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72A6-C192-4DC9-B13F-B335F7946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4BE3-CECB-4A27-BE7D-F256F91B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55A7-23F3-4662-880E-E97F7453F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F838-16A8-4557-99DA-3C41621A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F623-14E4-4B80-B3F1-7F13D5AF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4535-1DEE-499C-A6FB-5CE5613C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7BF9-8C74-4461-B6B4-B1D4F564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8D4E-6F63-4F29-9DE3-440194A3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1014-60E0-456E-8A77-4C5FCD8B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2724-0BE4-47FF-9FC3-00F0AE97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2950-78E6-461C-AC38-5AACB910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BB43-81A7-4AA8-B6C6-9E519615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EEF3-D5E7-45C4-832B-68BA8CBA96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7467480" y="609480"/>
          <a:ext cx="990720" cy="114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609480"/>
                    <a:ext cx="990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3"/>
          <p:cNvGraphicFramePr/>
          <p:nvPr/>
        </p:nvGraphicFramePr>
        <p:xfrm>
          <a:off x="762120" y="2666880"/>
          <a:ext cx="7772400" cy="3124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666880"/>
                    <a:ext cx="777240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09120" y="60948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Sea Trials – 9</a:t>
            </a:r>
            <a:r>
              <a:rPr b="0" lang="en-GB" sz="2800" spc="-1" strike="noStrike" baseline="30000">
                <a:solidFill>
                  <a:srgbClr val="ff9900"/>
                </a:solidFill>
                <a:latin typeface="Times New Roman"/>
              </a:rPr>
              <a:t>th</a:t>
            </a: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 June 200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Northern Lighthouse Board, Oban, Scotl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7296480" y="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e-NAV5/9/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Object 0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Picture 4" descr="C:\Documents and Settings\ChrisM\Desktop\new buoy.jpg"/>
          <p:cNvPicPr/>
          <p:nvPr/>
        </p:nvPicPr>
        <p:blipFill>
          <a:blip r:embed="rId3"/>
          <a:stretch/>
        </p:blipFill>
        <p:spPr>
          <a:xfrm>
            <a:off x="6248520" y="0"/>
            <a:ext cx="1251000" cy="160020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Picture 4" descr="C:\Documents and Settings\ChrisM\Desktop\buoy 5.jpg"/>
          <p:cNvPicPr/>
          <p:nvPr/>
        </p:nvPicPr>
        <p:blipFill>
          <a:blip r:embed="rId3"/>
          <a:stretch/>
        </p:blipFill>
        <p:spPr>
          <a:xfrm>
            <a:off x="7696080" y="1752480"/>
            <a:ext cx="1535400" cy="143532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0"/>
          <p:cNvGraphicFramePr/>
          <p:nvPr/>
        </p:nvGraphicFramePr>
        <p:xfrm>
          <a:off x="0" y="533520"/>
          <a:ext cx="9144000" cy="539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53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Oban Sea T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Hosted by Northern Lighthouse Board (NL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9</a:t>
            </a:r>
            <a:r>
              <a:rPr b="0" lang="en-GB" sz="32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to 13</a:t>
            </a:r>
            <a:r>
              <a:rPr b="0" lang="en-GB" sz="32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 June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NLB Oban Depot, Gallanach Rd, Oban, Argyll, Scotland. 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34 4LS.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Object 0"/>
          <p:cNvGraphicFramePr/>
          <p:nvPr/>
        </p:nvGraphicFramePr>
        <p:xfrm>
          <a:off x="7010280" y="380880"/>
          <a:ext cx="1122480" cy="146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380880"/>
                    <a:ext cx="112248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3"/>
          <p:cNvGraphicFramePr/>
          <p:nvPr/>
        </p:nvGraphicFramePr>
        <p:xfrm>
          <a:off x="0" y="907920"/>
          <a:ext cx="9144000" cy="518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1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Object 3"/>
          <p:cNvGraphicFramePr/>
          <p:nvPr/>
        </p:nvGraphicFramePr>
        <p:xfrm>
          <a:off x="0" y="907920"/>
          <a:ext cx="9144000" cy="518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1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Object 3"/>
          <p:cNvGraphicFramePr/>
          <p:nvPr/>
        </p:nvGraphicFramePr>
        <p:xfrm>
          <a:off x="0" y="907920"/>
          <a:ext cx="9144000" cy="518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1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0" y="907920"/>
          <a:ext cx="9144000" cy="518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1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0" y="820800"/>
          <a:ext cx="9296280" cy="527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20800"/>
                    <a:ext cx="9296280" cy="52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Object 3"/>
          <p:cNvGraphicFramePr/>
          <p:nvPr/>
        </p:nvGraphicFramePr>
        <p:xfrm>
          <a:off x="0" y="907920"/>
          <a:ext cx="9144000" cy="518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1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8028000" cy="64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0" y="907920"/>
          <a:ext cx="9144000" cy="518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1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Oban Sea T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Joint initiative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UK G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Northern Lighthouse Board (NL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missioners of Irish Lights (CI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Trinity House (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UK M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Maritime Coastguard Agen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4"/>
          <p:cNvGraphicFramePr/>
          <p:nvPr/>
        </p:nvGraphicFramePr>
        <p:xfrm>
          <a:off x="7010280" y="380880"/>
          <a:ext cx="1122480" cy="146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380880"/>
                    <a:ext cx="112248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Object 102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4" descr="C:\Documents and Settings\ChrisM\Desktop\new buoy.jpg"/>
          <p:cNvPicPr/>
          <p:nvPr/>
        </p:nvPicPr>
        <p:blipFill>
          <a:blip r:embed="rId3"/>
          <a:stretch/>
        </p:blipFill>
        <p:spPr>
          <a:xfrm>
            <a:off x="-228600" y="0"/>
            <a:ext cx="1309680" cy="167652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Picture 4" descr="C:\Documents and Settings\ChrisM\Desktop\buoy 45 2.jpg"/>
          <p:cNvPicPr/>
          <p:nvPr/>
        </p:nvPicPr>
        <p:blipFill>
          <a:blip r:embed="rId3"/>
          <a:stretch/>
        </p:blipFill>
        <p:spPr>
          <a:xfrm>
            <a:off x="1143000" y="1371600"/>
            <a:ext cx="1171440" cy="144000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Picture 4" descr="C:\Documents and Settings\ChrisM\Desktop\buoy 5.jpg"/>
          <p:cNvPicPr/>
          <p:nvPr/>
        </p:nvPicPr>
        <p:blipFill>
          <a:blip r:embed="rId3"/>
          <a:stretch/>
        </p:blipFill>
        <p:spPr>
          <a:xfrm>
            <a:off x="1523880" y="2971800"/>
            <a:ext cx="1611360" cy="134604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4" descr="C:\Documents and Settings\ChrisM\Desktop\new buoy.jpg"/>
          <p:cNvPicPr/>
          <p:nvPr/>
        </p:nvPicPr>
        <p:blipFill>
          <a:blip r:embed="rId3"/>
          <a:stretch/>
        </p:blipFill>
        <p:spPr>
          <a:xfrm>
            <a:off x="2819520" y="4191120"/>
            <a:ext cx="1251000" cy="160020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0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" name="Picture 4" descr="C:\Documents and Settings\ChrisM\Desktop\buoy 4.jpg"/>
          <p:cNvPicPr/>
          <p:nvPr/>
        </p:nvPicPr>
        <p:blipFill>
          <a:blip r:embed="rId3"/>
          <a:stretch/>
        </p:blipFill>
        <p:spPr>
          <a:xfrm>
            <a:off x="3505320" y="3048120"/>
            <a:ext cx="1620720" cy="119988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Object 0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4" descr="C:\Documents and Settings\ChrisM\Desktop\buoy 4.jpg"/>
          <p:cNvPicPr/>
          <p:nvPr/>
        </p:nvPicPr>
        <p:blipFill>
          <a:blip r:embed="rId3"/>
          <a:stretch/>
        </p:blipFill>
        <p:spPr>
          <a:xfrm>
            <a:off x="4267080" y="1752480"/>
            <a:ext cx="1621080" cy="120024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1:35:32Z</dcterms:created>
  <dc:creator>Alan Stewart</dc:creator>
  <dc:description/>
  <dc:language>en-US</dc:language>
  <cp:lastModifiedBy>Mike Hadley</cp:lastModifiedBy>
  <cp:lastPrinted>2003-12-11T15:09:21Z</cp:lastPrinted>
  <dcterms:modified xsi:type="dcterms:W3CDTF">2008-08-16T11:23:55Z</dcterms:modified>
  <cp:revision>58</cp:revision>
  <dc:subject/>
  <dc:title>AIS Presentation</dc:title>
</cp:coreProperties>
</file>